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924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688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924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688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837720"/>
            <a:ext cx="7238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924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688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924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688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837720"/>
            <a:ext cx="7238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Glostrup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9ae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40404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40404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181120" y="6400800"/>
            <a:ext cx="341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577F-E87B-469F-87C8-4DC9D44862DD}" type="datetime"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Glostrup Hospital – en del af Københavns Universitetshosp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371600" y="6400800"/>
            <a:ext cx="37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000000"/>
                </a:solidFill>
                <a:latin typeface="Times New Roman"/>
              </a:rPr>
              <a:t>Titel/beskrivelse (Sidehoved/fo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7"/>
          <p:cNvGrpSpPr/>
          <p:nvPr/>
        </p:nvGrpSpPr>
        <p:grpSpPr>
          <a:xfrm>
            <a:off x="5314680" y="119160"/>
            <a:ext cx="3886200" cy="608040"/>
            <a:chOff x="5314680" y="119160"/>
            <a:chExt cx="3886200" cy="608040"/>
          </a:xfrm>
        </p:grpSpPr>
        <p:sp>
          <p:nvSpPr>
            <p:cNvPr id="6" name="Line 42"/>
            <p:cNvSpPr/>
            <p:nvPr/>
          </p:nvSpPr>
          <p:spPr>
            <a:xfrm flipH="1">
              <a:off x="5314680" y="687240"/>
              <a:ext cx="3886200" cy="0"/>
            </a:xfrm>
            <a:prstGeom prst="line">
              <a:avLst/>
            </a:prstGeom>
            <a:ln w="6480">
              <a:solidFill>
                <a:srgbClr val="2a2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pic>
          <p:nvPicPr>
            <p:cNvPr id="7" name="Picture 4" descr=""/>
            <p:cNvPicPr/>
            <p:nvPr/>
          </p:nvPicPr>
          <p:blipFill>
            <a:blip r:embed="rId3"/>
            <a:stretch/>
          </p:blipFill>
          <p:spPr>
            <a:xfrm>
              <a:off x="5324400" y="289080"/>
              <a:ext cx="2676600" cy="2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44" descr=""/>
            <p:cNvPicPr/>
            <p:nvPr/>
          </p:nvPicPr>
          <p:blipFill>
            <a:blip r:embed="rId4"/>
            <a:stretch/>
          </p:blipFill>
          <p:spPr>
            <a:xfrm>
              <a:off x="8285040" y="119160"/>
              <a:ext cx="441360" cy="608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a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7" descr="Glostrup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18"/>
          <p:cNvGrpSpPr/>
          <p:nvPr/>
        </p:nvGrpSpPr>
        <p:grpSpPr>
          <a:xfrm>
            <a:off x="4788000" y="125280"/>
            <a:ext cx="4068720" cy="747720"/>
            <a:chOff x="4788000" y="125280"/>
            <a:chExt cx="4068720" cy="747720"/>
          </a:xfrm>
        </p:grpSpPr>
        <p:sp>
          <p:nvSpPr>
            <p:cNvPr id="47" name="Line 29"/>
            <p:cNvSpPr/>
            <p:nvPr/>
          </p:nvSpPr>
          <p:spPr>
            <a:xfrm flipH="1">
              <a:off x="4788000" y="825480"/>
              <a:ext cx="4068720" cy="0"/>
            </a:xfrm>
            <a:prstGeom prst="line">
              <a:avLst/>
            </a:prstGeom>
            <a:ln w="6480">
              <a:solidFill>
                <a:srgbClr val="2a2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pic>
          <p:nvPicPr>
            <p:cNvPr id="48" name="Picture 4" descr=""/>
            <p:cNvPicPr/>
            <p:nvPr/>
          </p:nvPicPr>
          <p:blipFill>
            <a:blip r:embed="rId3"/>
            <a:stretch/>
          </p:blipFill>
          <p:spPr>
            <a:xfrm>
              <a:off x="4794120" y="390600"/>
              <a:ext cx="2676600" cy="2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4" descr=""/>
            <p:cNvPicPr/>
            <p:nvPr/>
          </p:nvPicPr>
          <p:blipFill>
            <a:blip r:embed="rId4"/>
            <a:stretch/>
          </p:blipFill>
          <p:spPr>
            <a:xfrm>
              <a:off x="7693200" y="125280"/>
              <a:ext cx="539640" cy="74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1"/>
          <p:cNvSpPr/>
          <p:nvPr/>
        </p:nvSpPr>
        <p:spPr>
          <a:xfrm>
            <a:off x="7380360" y="6381720"/>
            <a:ext cx="147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8713800" y="65991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B0D4-E4F0-4A04-9296-14677A29122C}" type="slidenum">
              <a:rPr b="0" lang="da-DK" sz="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52" name="Picture 16" descr="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8317080" y="44280"/>
            <a:ext cx="788760" cy="387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9ae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40404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40404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4920" y="2130120"/>
            <a:ext cx="66229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25360" y="2286000"/>
            <a:ext cx="65530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31840" y="54097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1" descr="Øjenafdelingen-2010_lowres"/>
          <p:cNvPicPr/>
          <p:nvPr/>
        </p:nvPicPr>
        <p:blipFill>
          <a:blip r:embed="rId1"/>
          <a:srcRect l="2775" t="7180" r="3180" b="14016"/>
          <a:stretch/>
        </p:blipFill>
        <p:spPr>
          <a:xfrm>
            <a:off x="468360" y="1341360"/>
            <a:ext cx="8497800" cy="3240000"/>
          </a:xfrm>
          <a:prstGeom prst="rect">
            <a:avLst/>
          </a:prstGeom>
          <a:ln w="0">
            <a:noFill/>
          </a:ln>
        </p:spPr>
      </p:pic>
      <p:sp>
        <p:nvSpPr>
          <p:cNvPr id="95" name="Arc 29"/>
          <p:cNvSpPr/>
          <p:nvPr/>
        </p:nvSpPr>
        <p:spPr>
          <a:xfrm flipV="1" rot="1973400">
            <a:off x="3249720" y="4835880"/>
            <a:ext cx="2517840" cy="1708560"/>
          </a:xfrm>
          <a:custGeom>
            <a:avLst/>
            <a:gdLst/>
            <a:ahLst/>
            <a:rect l="l" t="t" r="r" b="b"/>
            <a:pathLst>
              <a:path fill="none" w="31962" h="21600">
                <a:moveTo>
                  <a:pt x="0" y="2655"/>
                </a:moveTo>
                <a:cubicBezTo>
                  <a:pt x="3181" y="913"/>
                  <a:pt x="6749" y="-1"/>
                  <a:pt x="10376" y="0"/>
                </a:cubicBezTo>
                <a:cubicBezTo>
                  <a:pt x="21999" y="0"/>
                  <a:pt x="31539" y="9198"/>
                  <a:pt x="31961" y="20815"/>
                </a:cubicBezTo>
              </a:path>
              <a:path stroke="0" w="31962" h="21600">
                <a:moveTo>
                  <a:pt x="0" y="2655"/>
                </a:moveTo>
                <a:cubicBezTo>
                  <a:pt x="3181" y="913"/>
                  <a:pt x="6749" y="-1"/>
                  <a:pt x="10376" y="0"/>
                </a:cubicBezTo>
                <a:cubicBezTo>
                  <a:pt x="21999" y="0"/>
                  <a:pt x="31539" y="9198"/>
                  <a:pt x="31961" y="20815"/>
                </a:cubicBezTo>
                <a:lnTo>
                  <a:pt x="10376" y="21600"/>
                </a:lnTo>
                <a:lnTo>
                  <a:pt x="0" y="2655"/>
                </a:lnTo>
                <a:close/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96" name="Group 39"/>
          <p:cNvGrpSpPr/>
          <p:nvPr/>
        </p:nvGrpSpPr>
        <p:grpSpPr>
          <a:xfrm>
            <a:off x="3070080" y="4179600"/>
            <a:ext cx="3061800" cy="2806920"/>
            <a:chOff x="3070080" y="4179600"/>
            <a:chExt cx="3061800" cy="2806920"/>
          </a:xfrm>
        </p:grpSpPr>
        <p:sp>
          <p:nvSpPr>
            <p:cNvPr id="97" name="Arc 23"/>
            <p:cNvSpPr/>
            <p:nvPr/>
          </p:nvSpPr>
          <p:spPr>
            <a:xfrm flipV="1" rot="12742200">
              <a:off x="3331800" y="4725360"/>
              <a:ext cx="2538360" cy="1714320"/>
            </a:xfrm>
            <a:custGeom>
              <a:avLst/>
              <a:gdLst/>
              <a:ahLst/>
              <a:rect l="l" t="t" r="r" b="b"/>
              <a:pathLst>
                <a:path fill="none" w="32109" h="21600">
                  <a:moveTo>
                    <a:pt x="0" y="2743"/>
                  </a:moveTo>
                  <a:cubicBezTo>
                    <a:pt x="3219" y="944"/>
                    <a:pt x="6846" y="-1"/>
                    <a:pt x="10535" y="0"/>
                  </a:cubicBezTo>
                  <a:cubicBezTo>
                    <a:pt x="22055" y="0"/>
                    <a:pt x="31547" y="9040"/>
                    <a:pt x="32109" y="20546"/>
                  </a:cubicBezTo>
                </a:path>
                <a:path stroke="0" w="32109" h="21600">
                  <a:moveTo>
                    <a:pt x="0" y="2743"/>
                  </a:moveTo>
                  <a:cubicBezTo>
                    <a:pt x="3219" y="944"/>
                    <a:pt x="6846" y="-1"/>
                    <a:pt x="10535" y="0"/>
                  </a:cubicBezTo>
                  <a:cubicBezTo>
                    <a:pt x="22055" y="0"/>
                    <a:pt x="31547" y="9040"/>
                    <a:pt x="32109" y="20546"/>
                  </a:cubicBezTo>
                  <a:lnTo>
                    <a:pt x="10535" y="21600"/>
                  </a:lnTo>
                  <a:lnTo>
                    <a:pt x="0" y="2743"/>
                  </a:lnTo>
                  <a:close/>
                </a:path>
              </a:pathLst>
            </a:custGeom>
            <a:noFill/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graphicFrame>
          <p:nvGraphicFramePr>
            <p:cNvPr id="98" name="Object 24"/>
            <p:cNvGraphicFramePr/>
            <p:nvPr/>
          </p:nvGraphicFramePr>
          <p:xfrm>
            <a:off x="4164120" y="5457960"/>
            <a:ext cx="750960" cy="334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9" name="Object 2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64120" y="5457960"/>
                      <a:ext cx="75096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Rectangle 25"/>
            <p:cNvSpPr/>
            <p:nvPr/>
          </p:nvSpPr>
          <p:spPr>
            <a:xfrm>
              <a:off x="4038480" y="5735520"/>
              <a:ext cx="31284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101" name="Rectangle 26"/>
            <p:cNvSpPr/>
            <p:nvPr/>
          </p:nvSpPr>
          <p:spPr>
            <a:xfrm>
              <a:off x="4789440" y="5735520"/>
              <a:ext cx="18900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4789440" y="5410080"/>
              <a:ext cx="18900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103" name="Freeform 28"/>
            <p:cNvSpPr/>
            <p:nvPr/>
          </p:nvSpPr>
          <p:spPr>
            <a:xfrm>
              <a:off x="4116240" y="5413320"/>
              <a:ext cx="168480" cy="123840"/>
            </a:xfrm>
            <a:custGeom>
              <a:avLst/>
              <a:gdLst/>
              <a:ahLst/>
              <a:rect l="l" t="t" r="r" b="b"/>
              <a:pathLst>
                <a:path w="481" h="485">
                  <a:moveTo>
                    <a:pt x="40" y="485"/>
                  </a:moveTo>
                  <a:cubicBezTo>
                    <a:pt x="51" y="426"/>
                    <a:pt x="34" y="460"/>
                    <a:pt x="113" y="445"/>
                  </a:cubicBezTo>
                  <a:cubicBezTo>
                    <a:pt x="127" y="442"/>
                    <a:pt x="154" y="431"/>
                    <a:pt x="154" y="431"/>
                  </a:cubicBezTo>
                  <a:cubicBezTo>
                    <a:pt x="183" y="386"/>
                    <a:pt x="168" y="402"/>
                    <a:pt x="194" y="378"/>
                  </a:cubicBezTo>
                  <a:cubicBezTo>
                    <a:pt x="208" y="332"/>
                    <a:pt x="252" y="333"/>
                    <a:pt x="294" y="324"/>
                  </a:cubicBezTo>
                  <a:cubicBezTo>
                    <a:pt x="321" y="299"/>
                    <a:pt x="346" y="276"/>
                    <a:pt x="381" y="264"/>
                  </a:cubicBezTo>
                  <a:cubicBezTo>
                    <a:pt x="423" y="225"/>
                    <a:pt x="363" y="277"/>
                    <a:pt x="415" y="244"/>
                  </a:cubicBezTo>
                  <a:cubicBezTo>
                    <a:pt x="426" y="237"/>
                    <a:pt x="433" y="226"/>
                    <a:pt x="442" y="217"/>
                  </a:cubicBezTo>
                  <a:cubicBezTo>
                    <a:pt x="455" y="172"/>
                    <a:pt x="467" y="129"/>
                    <a:pt x="475" y="83"/>
                  </a:cubicBezTo>
                  <a:cubicBezTo>
                    <a:pt x="460" y="0"/>
                    <a:pt x="481" y="39"/>
                    <a:pt x="334" y="50"/>
                  </a:cubicBezTo>
                  <a:cubicBezTo>
                    <a:pt x="309" y="52"/>
                    <a:pt x="261" y="70"/>
                    <a:pt x="261" y="70"/>
                  </a:cubicBezTo>
                  <a:cubicBezTo>
                    <a:pt x="233" y="96"/>
                    <a:pt x="252" y="79"/>
                    <a:pt x="200" y="117"/>
                  </a:cubicBezTo>
                  <a:cubicBezTo>
                    <a:pt x="120" y="175"/>
                    <a:pt x="220" y="71"/>
                    <a:pt x="127" y="157"/>
                  </a:cubicBezTo>
                  <a:cubicBezTo>
                    <a:pt x="58" y="221"/>
                    <a:pt x="43" y="302"/>
                    <a:pt x="26" y="391"/>
                  </a:cubicBezTo>
                  <a:cubicBezTo>
                    <a:pt x="15" y="448"/>
                    <a:pt x="0" y="436"/>
                    <a:pt x="40" y="4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104" name="Oval 30"/>
            <p:cNvSpPr/>
            <p:nvPr/>
          </p:nvSpPr>
          <p:spPr>
            <a:xfrm>
              <a:off x="4084560" y="5241960"/>
              <a:ext cx="939960" cy="714240"/>
            </a:xfrm>
            <a:prstGeom prst="ellipse">
              <a:avLst/>
            </a:prstGeom>
            <a:noFill/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105" name="WordArt 31"/>
            <p:cNvSpPr txBox="1"/>
            <p:nvPr/>
          </p:nvSpPr>
          <p:spPr>
            <a:xfrm>
              <a:off x="3132000" y="4724280"/>
              <a:ext cx="2810160" cy="1478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48652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Ø  J  E  N  A  F  D  E  L  I  N  G  E  N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06" name="WordArt 32"/>
            <p:cNvSpPr txBox="1"/>
            <p:nvPr/>
          </p:nvSpPr>
          <p:spPr>
            <a:xfrm>
              <a:off x="3346560" y="5300640"/>
              <a:ext cx="2520720" cy="1238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47339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KØBENHAVNS UNIVERSITETS HOSPITAL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07" name="WordArt 33"/>
            <p:cNvSpPr txBox="1"/>
            <p:nvPr/>
          </p:nvSpPr>
          <p:spPr>
            <a:xfrm>
              <a:off x="3276720" y="4957920"/>
              <a:ext cx="2436840" cy="1495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99317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R E G I O N  H O V E D S T A D E 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08" name="WordArt 34"/>
            <p:cNvSpPr txBox="1"/>
            <p:nvPr/>
          </p:nvSpPr>
          <p:spPr>
            <a:xfrm>
              <a:off x="4272120" y="5830920"/>
              <a:ext cx="534960" cy="168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RIGSHOSPITALET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09" name="WordArt 35"/>
            <p:cNvSpPr txBox="1"/>
            <p:nvPr/>
          </p:nvSpPr>
          <p:spPr>
            <a:xfrm>
              <a:off x="4178160" y="5200560"/>
              <a:ext cx="701640" cy="252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91757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GLOSTRUP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0" name="WordArt 36"/>
            <p:cNvSpPr txBox="1"/>
            <p:nvPr/>
          </p:nvSpPr>
          <p:spPr>
            <a:xfrm rot="5400000">
              <a:off x="4834440" y="5542920"/>
              <a:ext cx="338040" cy="14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HILLERØD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1" name="WordArt 37"/>
            <p:cNvSpPr txBox="1"/>
            <p:nvPr/>
          </p:nvSpPr>
          <p:spPr>
            <a:xfrm rot="16200000">
              <a:off x="3924360" y="5481360"/>
              <a:ext cx="460440" cy="235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FREDERIKSBERG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08:12:29Z</dcterms:created>
  <dc:creator>jethoy01</dc:creator>
  <dc:description/>
  <dc:language>en-US</dc:language>
  <cp:lastModifiedBy>Lasse Malmqvist Larsen</cp:lastModifiedBy>
  <dcterms:modified xsi:type="dcterms:W3CDTF">2014-08-08T12:31:07Z</dcterms:modified>
  <cp:revision>111</cp:revision>
  <dc:subject/>
  <dc:title>Uddannelse og fusion</dc:title>
</cp:coreProperties>
</file>