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DEB8-2188-4426-BEA2-CE1870461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238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177080"/>
            <a:ext cx="7238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6A00-43BA-4719-BC01-75E110EC3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81040" y="182880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17708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81040" y="417708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1E01-6555-4DC1-9544-538EBE3C2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3306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19240" y="1828800"/>
            <a:ext cx="23306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6880" y="1828800"/>
            <a:ext cx="23306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177080"/>
            <a:ext cx="23306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19240" y="4177080"/>
            <a:ext cx="23306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6880" y="4177080"/>
            <a:ext cx="23306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A474-CA97-4225-8448-87BD313D6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32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1040" y="1828800"/>
            <a:ext cx="3532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838080"/>
            <a:ext cx="7238880" cy="415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1040" y="1828800"/>
            <a:ext cx="3532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17708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3A40-F5C4-4538-9A50-C31C96914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32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1040" y="182880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1040" y="417708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1040" y="182880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177080"/>
            <a:ext cx="7238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238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177080"/>
            <a:ext cx="7238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1040" y="182880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17708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1040" y="417708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3306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9240" y="1828800"/>
            <a:ext cx="23306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6880" y="1828800"/>
            <a:ext cx="23306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177080"/>
            <a:ext cx="23306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9240" y="4177080"/>
            <a:ext cx="23306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6880" y="4177080"/>
            <a:ext cx="233064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357C-E482-466D-9CEF-6367C3B24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32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81040" y="1828800"/>
            <a:ext cx="3532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1264-D5AD-4144-BC93-C0102CF65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776B-C86E-45F4-A41F-2891A8771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371600" y="838080"/>
            <a:ext cx="7238880" cy="415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A02F-1A45-427D-948D-31FFEDF96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81040" y="1828800"/>
            <a:ext cx="3532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17708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D540E-A3B8-4EA9-ABB3-D8B5BDA5C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32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1040" y="182880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81040" y="417708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A496-A091-40E6-9D8F-3C2E06351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1040" y="1828800"/>
            <a:ext cx="35323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177080"/>
            <a:ext cx="723888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7F2B-5BC5-4EA8-BD76-DB47B31AC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381720"/>
            <a:ext cx="2411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BF54-2E42-4A7E-BEFC-8EF41CD9F9F9}" type="slidenum">
              <a:rPr b="0" lang="da-DK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71600" y="18288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9ae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40404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40404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a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5157360"/>
            <a:ext cx="756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516720" y="6092640"/>
            <a:ext cx="22320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6093000"/>
            <a:ext cx="5256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1193400" y="6093000"/>
            <a:ext cx="51786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40404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00"/>
              </a:spcBef>
              <a:buClr>
                <a:srgbClr val="009ae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914400" indent="44280" algn="ctr"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3" marL="1371600" indent="6480" algn="ctr">
              <a:spcBef>
                <a:spcPts val="400"/>
              </a:spcBef>
              <a:buClr>
                <a:srgbClr val="404040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40404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a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7280" y="5157360"/>
            <a:ext cx="756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itel/beskrivelse (Sidehoved/fod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ato (Sidehoved/fod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052640"/>
            <a:ext cx="7238880" cy="518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4AE0-7BC6-45D9-80D6-DBAF42362E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201080" cy="45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C8E2-ED06-4BD8-BF2F-9750129FCA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3456000" cy="4464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70600" y="1841400"/>
            <a:ext cx="35337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620E-172A-45A8-BA0B-F7D73749B9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1240" y="1819440"/>
            <a:ext cx="3543480" cy="4505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076720" y="1819440"/>
            <a:ext cx="3527640" cy="2176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76720" y="4148280"/>
            <a:ext cx="3527640" cy="217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5F3E-F75A-4133-9FA3-9BE5A656FC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4147920"/>
            <a:ext cx="7238880" cy="21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0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3529080" cy="2232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352764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99E9-2648-48F6-88EE-4063BF16FC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03280" y="4149720"/>
            <a:ext cx="3456000" cy="2158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03640" y="1841400"/>
            <a:ext cx="3600720" cy="4467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403280" y="1844640"/>
            <a:ext cx="3456000" cy="215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BF3B-DE05-4373-8709-D482CD0633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3444840" cy="216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2160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403280" y="4149720"/>
            <a:ext cx="3444840" cy="2174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076720" y="4149720"/>
            <a:ext cx="3527640" cy="215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FB21-7A58-4F77-BCBC-99AB7D3243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819440"/>
            <a:ext cx="35434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0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95800" y="1830240"/>
            <a:ext cx="3502080" cy="44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A048-AA1B-4CE4-80F7-A3185E2B55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67360" y="1819440"/>
            <a:ext cx="35431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0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53960" y="1844640"/>
            <a:ext cx="351504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49DE-30A6-4F65-A95C-AF77538374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240" y="1819440"/>
            <a:ext cx="35434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0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76720" y="1782720"/>
            <a:ext cx="3527640" cy="2151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76720" y="4076640"/>
            <a:ext cx="3527640" cy="22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85E2-3250-4F81-8712-65330574FA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138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59280" y="1773360"/>
            <a:ext cx="4032360" cy="27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404040"/>
                </a:solidFill>
                <a:latin typeface="Arial"/>
              </a:rPr>
              <a:t>Et specialhospital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404040"/>
                </a:solidFill>
                <a:latin typeface="Arial"/>
              </a:rPr>
              <a:t>i Region Hovedstaden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Specialister i sygdomme i hjerne, ryg og øjne 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og specialiseret genoptræning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Egen forskerpark og 16 professorer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En del af Københavns Universitetshospital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Akkrediteret af Joint Commission International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6381720"/>
            <a:ext cx="2411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8E03-B619-4B85-8005-CE96A780F330}" type="slidenum">
              <a:rPr b="0" lang="da-DK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5F11-F1D6-45E0-8706-B3DE4D6F28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67360" y="1819440"/>
            <a:ext cx="35431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0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03280" y="1782720"/>
            <a:ext cx="3456000" cy="2151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403280" y="4133880"/>
            <a:ext cx="3456000" cy="21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6EE6-8F19-452B-9CC7-6DBAD296AE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a-DK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819080"/>
            <a:ext cx="7238880" cy="21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0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03280" y="4149720"/>
            <a:ext cx="720108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59BF-B302-46A7-99AC-301DD6EA51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4147920"/>
            <a:ext cx="7238880" cy="21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0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03280" y="1819440"/>
            <a:ext cx="7201080" cy="21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9B20-142B-43D5-8F8E-780B9C2CCA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4147920"/>
            <a:ext cx="7238880" cy="21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0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3529080" cy="2151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21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740C-0CE3-42C4-BBA0-1823A0B52F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859280" y="1835280"/>
            <a:ext cx="428472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404040"/>
                </a:solidFill>
                <a:latin typeface="Arial"/>
              </a:rPr>
              <a:t>Fakta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Budget 1,5 milliarder kr. 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2400 medarbejdere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315 sengepladser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30.000 operationer/operative indgreb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250.000 ambulante besøg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6381720"/>
            <a:ext cx="2411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9BBB-192D-48D0-A165-ECEAE5A95FAC}" type="slidenum">
              <a:rPr b="0" lang="da-DK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EEC5-6D2C-41C8-9FDF-BE8E08890D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859280" y="1469880"/>
            <a:ext cx="403380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404040"/>
                </a:solidFill>
                <a:latin typeface="Arial"/>
              </a:rPr>
              <a:t>Kraftcenter for</a:t>
            </a:r>
            <a:r>
              <a:rPr b="1" lang="da-DK" sz="24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404040"/>
                </a:solidFill>
                <a:latin typeface="Arial"/>
              </a:rPr>
              <a:t>sundhedsforskning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Højtprofileret del af Københavns 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Universitetshospital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Stærkt forskningsmiljø med egen forskerpark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Samarbejde med medicinalindustrien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Integreret del af hospitalets kerneydelse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Tæt samspil mellem forskning og klinik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20 professorer og seniorforskere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Omfattende videnskabelig produktion på 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internationalt niveau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6381720"/>
            <a:ext cx="2411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5578-E555-4AD2-96C3-A161464CBAED}" type="slidenum">
              <a:rPr b="0" lang="da-DK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D2CA-55A6-4499-AF34-C965CB3F3C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05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76360" y="3933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404040"/>
                </a:solidFill>
                <a:latin typeface="Arial"/>
              </a:rPr>
              <a:t>Regions- og </a:t>
            </a:r>
            <a:r>
              <a:rPr b="1" lang="da-DK" sz="2400" spc="-1" strike="noStrike">
                <a:solidFill>
                  <a:srgbClr val="404040"/>
                </a:solidFill>
                <a:latin typeface="Arial"/>
              </a:rPr>
              <a:t>højtspecialiserede funktioner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4508640"/>
            <a:ext cx="36003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404040"/>
                </a:solidFill>
                <a:latin typeface="Arial"/>
              </a:rPr>
              <a:t>Østdanmark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Øjenbehandling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Neurorehabilitering af hjerneskadede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Neurorehabilitering af rygmarvsskadede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Hovedpinecenter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Søvncenter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Respirationscenter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75280" y="4508640"/>
            <a:ext cx="35290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404040"/>
                </a:solidFill>
                <a:latin typeface="Arial"/>
              </a:rPr>
              <a:t>Region Hovedstaden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181080" indent="-181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Rygbehandling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181080" indent="-181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Neurologi, bl.a. trombolysebehandling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181080" indent="-181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Visse reumatologiske behandlinger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marL="181080" indent="-181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9aeb"/>
                </a:solidFill>
                <a:latin typeface="Arial"/>
              </a:rPr>
              <a:t>•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da-DK" sz="1400" spc="-1" strike="noStrike">
                <a:solidFill>
                  <a:srgbClr val="404040"/>
                </a:solidFill>
                <a:latin typeface="Arial"/>
              </a:rPr>
              <a:t>Visse diagnostiske undersøgelser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6381720"/>
            <a:ext cx="2411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92B4-C0D9-4000-AE7F-C459E089FA30}" type="slidenum">
              <a:rPr b="0" lang="da-DK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E7D9-1AC3-43B2-A102-983548D526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60360" y="1052640"/>
            <a:ext cx="7559640" cy="50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B46F-2803-4DBF-8BB5-E1FB5D5671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32000" y="652320"/>
            <a:ext cx="7343640" cy="59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4964-E252-4526-9236-A44E506638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240" y="1828440"/>
            <a:ext cx="3543480" cy="2171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67360" y="1828440"/>
            <a:ext cx="3543120" cy="2171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371240" y="4152960"/>
            <a:ext cx="3543480" cy="2171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067360" y="4152960"/>
            <a:ext cx="3543120" cy="217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7A50-5BFC-4AC6-B01F-3C192EBE50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90BE-D8D4-4CC1-8B84-72F925274E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3:27:13Z</dcterms:created>
  <dc:creator>sthema01</dc:creator>
  <dc:description/>
  <dc:language>en-US</dc:language>
  <cp:lastModifiedBy>ANNTHO07</cp:lastModifiedBy>
  <dcterms:modified xsi:type="dcterms:W3CDTF">2012-08-27T11:57:36Z</dcterms:modified>
  <cp:revision>1</cp:revision>
  <dc:subject/>
  <dc:title>Dias nummer 1</dc:title>
</cp:coreProperties>
</file>